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BC53-BF09-4841-A935-50922A7F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E2F-7705-45D0-BB3A-2F4CF5CDB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9B5-0203-43DA-B7EB-32C6F139A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DD8-CFD1-404E-96AE-58C16DA3B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992-7B3E-4565-A70D-FD5A909C1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E2A-C521-42CB-B827-D9824B7F7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14DC-59E9-4F6B-9CFD-ED4890DCE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A65-297C-47F1-82DE-034B5D0BD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835-9BA8-489D-B024-FE7B387C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8E3-74C2-410E-92C6-DAADCD8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B49-994A-4578-9B32-31F6C1F7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D56-C475-4A5B-87F4-8CBA9833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029-CA95-420F-AB4D-CA38BBF9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AE4C-E503-442F-A569-FDE3C0A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90F5-ACA3-477A-B326-3BE82011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AF8-1EF9-4A1C-9ED7-F09C042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72E-C237-41D6-A605-8F4455B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050A-EA49-4880-B840-2D1CA1EA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6195-2185-43DA-A006-7C304D2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18E-CABA-46BD-96D7-DB78EFC0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2590-644F-4872-91BA-026DCB63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7D3-8D3A-410A-845A-4AEACAE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A2D-DA45-45AB-BD68-854D514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B5E-6783-42C0-9C07-11AB596E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039-F993-4515-BB9D-7576DCE7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DBA-941F-473A-9EE9-BC77AB5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710-C368-4B41-8D87-8E700DF7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9C7-CED5-4CA5-8EA3-22EB36B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D6-C821-4A0E-B7C9-F75868B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601-546C-4C8C-9A0A-62772628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019-3D14-4E0C-AC2A-B7F979D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2C7-93D5-46B4-A815-8B4FEF1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9AE-FECF-4DF7-AF48-78B66CF71C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B16F-291F-4ED3-98E5-270A3994A4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W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 Breaks Ou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allocate all their resources to war effort (TOTAL W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untries ration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replace men in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d 330 billion dollars are spent fighting the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tot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8.5 million people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1.7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1.7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1.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ria Hungary 1.2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and 908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ed State 116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eaty of Versail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s the Great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severe and is used to punis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e takes its reve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wants coexis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wants to avoid future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s left with the weak Weimar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roblems fol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Treaty of Versail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705B462F"/>
          <p:cNvPicPr/>
          <p:nvPr/>
        </p:nvPicPr>
        <p:blipFill>
          <a:blip r:embed="rId1"/>
          <a:srcRect l="5196" t="2083" r="39287" b="79437"/>
          <a:stretch/>
        </p:blipFill>
        <p:spPr>
          <a:xfrm>
            <a:off x="152280" y="1981080"/>
            <a:ext cx="87631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3-2-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 – policies that Germany must foll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– reasons why France wanted to punish Germa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Question about the war/treaty that you still ha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arations = de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 and crippled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lands contained great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military frightens the Germ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, unpopular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nations and political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e and identity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683c"/>
                </a:solidFill>
                <a:latin typeface="Tahoma"/>
              </a:rPr>
              <a:t>Russ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547720"/>
            <a:ext cx="370368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yal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ty (300y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ain in war (join in spoi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y allies with England, France,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, money,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680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ace, land, br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bs/end serv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industrial grow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http://rds.yahoo.com/_ylt=A9gnMiP3slBG8hkAdFijzbkF;_ylu=X3oDMTBsMDZhZWQzBHNlYwNwcm9mBHZ0aWQDSTA3MF85Mg--/SIG=125jmnmbf/EXP=1179780215/**http%3A/www.2-russia.com/images/people/romanov.jpg"/>
          <p:cNvPicPr/>
          <p:nvPr/>
        </p:nvPicPr>
        <p:blipFill>
          <a:blip r:embed="rId1"/>
          <a:stretch/>
        </p:blipFill>
        <p:spPr>
          <a:xfrm>
            <a:off x="4267080" y="5214960"/>
            <a:ext cx="1524240" cy="1643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ttp://rds.yahoo.com/_ylt=A9gnMiMos1BG.BoAkC6jzbkF;_ylu=X3oDMTBsMDZhZWQzBHNlYwNwcm9mBHZ0aWQDSTA3MF85Mg--/SIG=12b8nrtsp/EXP=1179780264/**http%3A/www.klangundkleid.ch/img/dvd/covers/EKA40050.jpg"/>
          <p:cNvPicPr/>
          <p:nvPr/>
        </p:nvPicPr>
        <p:blipFill>
          <a:blip r:embed="rId2"/>
          <a:stretch/>
        </p:blipFill>
        <p:spPr>
          <a:xfrm>
            <a:off x="7602480" y="0"/>
            <a:ext cx="154152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The Winter Palace"/>
          <p:cNvPicPr/>
          <p:nvPr/>
        </p:nvPicPr>
        <p:blipFill>
          <a:blip r:embed="rId3"/>
          <a:stretch/>
        </p:blipFill>
        <p:spPr>
          <a:xfrm>
            <a:off x="0" y="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http://rds.yahoo.com/_ylt=A9gnMiiTs1BGbMoA7AWjzbkF;_ylu=X3oDMTBsMDZhZWQzBHNlYwNwcm9mBHZ0aWQDSTA3MF85Mg--/SIG=12jgh5s7j/EXP=1179780371/**http%3A/www.cise.ufl.edu/~db0/images/Hammer%2520n%2520sickle.gif"/>
          <p:cNvPicPr/>
          <p:nvPr/>
        </p:nvPicPr>
        <p:blipFill>
          <a:blip r:embed="rId4"/>
          <a:stretch/>
        </p:blipFill>
        <p:spPr>
          <a:xfrm>
            <a:off x="5715000" y="457200"/>
            <a:ext cx="9525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http://rds.yahoo.com/_ylt=A9gnMiiTs1BGbMoA7AWjzbkF;_ylu=X3oDMTBsMDZhZWQzBHNlYwNwcm9mBHZ0aWQDSTA3MF85Mg--/SIG=12jgh5s7j/EXP=1179780371/**http%3A/www.cise.ufl.edu/~db0/images/Hammer%2520n%2520sickle.gif"/>
          <p:cNvPicPr/>
          <p:nvPr/>
        </p:nvPicPr>
        <p:blipFill>
          <a:blip r:embed="rId5"/>
          <a:stretch/>
        </p:blipFill>
        <p:spPr>
          <a:xfrm>
            <a:off x="7848720" y="4495680"/>
            <a:ext cx="9525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476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ds vs. Whi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2590920"/>
            <a:ext cx="602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s: Bolshevik communist who oppose the Tsar and the Old Reg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Lenin, Trotsky, Stal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s: Defend Tsar and traditional socia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-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2" descr="http://rds.yahoo.com/_ylt=A9gnMinFtVBGC.IAcDujzbkF;_ylu=X3oDMTBsMDZhZWQzBHNlYwNwcm9mBHZ0aWQDSTA3MF85Mg--/SIG=11uthu1c5/EXP=1179780933/**http%3A/www.anticom.ru/images/red/lenin.jpg"/>
          <p:cNvPicPr/>
          <p:nvPr/>
        </p:nvPicPr>
        <p:blipFill>
          <a:blip r:embed="rId1"/>
          <a:stretch/>
        </p:blipFill>
        <p:spPr>
          <a:xfrm>
            <a:off x="0" y="0"/>
            <a:ext cx="1676520" cy="257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rds.yahoo.com/_ylt=A9gnMiYNtlBGlLIA.kqjzbkF;_ylu=X3oDMTBsMDZhZWQzBHNlYwNwcm9mBHZ0aWQDSTA3MF85Mg--/SIG=12g3nal98/EXP=1179781005/**http%3A/radio.weblogs.com/0001015/images/2002/09/21/lenin.jpg"/>
          <p:cNvPicPr/>
          <p:nvPr/>
        </p:nvPicPr>
        <p:blipFill>
          <a:blip r:embed="rId2"/>
          <a:stretch/>
        </p:blipFill>
        <p:spPr>
          <a:xfrm>
            <a:off x="6172200" y="2735280"/>
            <a:ext cx="29322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ster Assig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poster that supports either the Czar or the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ster should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/Vis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ying, quote, chant . 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rate and creative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2488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lin’s Soviet Un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320" y="1142640"/>
            <a:ext cx="6708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ve Year Plans: to modernize and strengthen th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steel, coal, oil &amp;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quotas are set on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consumer goods/scrap driv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to shortages and suff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2" descr="http://rds.yahoo.com/_ylt=A9gnMiFepVNGW1kBZ0mjzbkF;_ylu=X3oDMTBsMDZhZWQzBHNlYwNwcm9mBHZ0aWQDSTA3MF85Mg--/SIG=12d3kd3ev/EXP=1179973342/**http%3A/www.dictatorofthemonth.com/Stalin/stalin_siwy.jpeg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ree/Disagre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is a test of a nation’s true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tell a lot about a person based on their ethnicity/nati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ypocritical for America to fight against other nations for developing weapons of mass de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457200"/>
          <a:ext cx="9144000" cy="5864400"/>
        </p:xfrm>
        <a:graphic>
          <a:graphicData uri="http://schemas.openxmlformats.org/drawingml/2006/table">
            <a:tbl>
              <a:tblPr/>
              <a:tblGrid>
                <a:gridCol w="1736640"/>
                <a:gridCol w="2286000"/>
                <a:gridCol w="2470320"/>
                <a:gridCol w="265104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mt (75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 mt (152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mt (22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mt (47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on 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mt (19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g Ir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mt (10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mt (16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million t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mt (10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mt (17 mt targe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la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d Labor Camps for 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like jails but with forced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extremely vicious and corru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se who refused coll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ign enem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se who spoke against the reg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llective Fa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lions of farms are seized and combined into larger fa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families worked each coll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waste and compet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ier to superv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resisted and died or were impriso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rges (Great Purg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ecret police and political spies, Stalin begins his attack on possib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hear the door and disapp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sored the p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ten target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rs/dir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riv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ne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value of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s it (two reas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this impact the global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fl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y of Versailles: reparations, land,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colonies, allies and mar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pri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y is hit har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ian business partners then suf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are the true world currenc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 they have in comm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y Blair, George W. Bush, Vladimir Pu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vo, BMW, Mercedes-Be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ue Whales, Snow Leopards, White Rh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, Hitler, Mussol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D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it R’ Do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out a blank sheet of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ide of the room will receive several direction sh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de that has every individual finish first wins 1pt of extra cred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asons for Regim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out of chaos (laws and agen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ying effect (national ident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oice of reason (shot call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tarian (cruel enough to force c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BACKS of DEMOCRA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di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formed are included in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act of National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licts over lands/bound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uperiority comple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role of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folklore/heri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s over political amb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http://rds.yahoo.com/_ylt=A9gnMifak0JGVQgA0Q6jzbkF;_ylu=X3oDMTBsMW5yM3VoBHNlYwNwcm9mBHZ0aWQDSTA2Nl84OA--/SIG=120ogum19/EXP=1178854746/**http%3A/www.loc.gov/rr/print/guide/pp0594.jpg"/>
          <p:cNvPicPr/>
          <p:nvPr/>
        </p:nvPicPr>
        <p:blipFill>
          <a:blip r:embed="rId1"/>
          <a:stretch/>
        </p:blipFill>
        <p:spPr>
          <a:xfrm>
            <a:off x="6829560" y="3735360"/>
            <a:ext cx="2314440" cy="3122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rds.yahoo.com/_ylt=A9gnMiOdk0JGdqkA71OjzbkF;_ylu=X3oDMTBsMW5yM3VoBHNlYwNwcm9mBHZ0aWQDSTA2Nl84OA--/SIG=12luqab0j/EXP=1178854685/**http%3A/www.clas.ufl.edu/users/harlandj/Images/fww_recruit_ire.jpg"/>
          <p:cNvPicPr/>
          <p:nvPr/>
        </p:nvPicPr>
        <p:blipFill>
          <a:blip r:embed="rId2"/>
          <a:stretch/>
        </p:blipFill>
        <p:spPr>
          <a:xfrm>
            <a:off x="4572000" y="3780000"/>
            <a:ext cx="2209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4 Ca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itarism – Glorifying military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requires a 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would a military b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iances – Secret promises betwe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alliances were not as danger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 alliances made regional wars glob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erialism –  Quest for colonies/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on for strategic locations =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ionalism – devotion to one’s country OR desire for a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ethnicities (one attacked, all attack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50480" y="244440"/>
            <a:ext cx="88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“I regret that I have but one life to give to my countr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than H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The total Defense expenditures of European pow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2057400"/>
          <a:ext cx="6782040" cy="137160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30400"/>
                <a:gridCol w="1130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81"/>
          <p:cNvSpPr/>
          <p:nvPr/>
        </p:nvSpPr>
        <p:spPr>
          <a:xfrm>
            <a:off x="156960" y="3425040"/>
            <a:ext cx="814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To Fight we are b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fight for the father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Kaiser Wilhelm we have sw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Kaiser Wilhelm we give our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“War is no longer Samson with his shield and spear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word, and David with his sling.  It is a conflict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okestacks…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cretary of War Newton B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long as it has no allies France poses no danger to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to Von Bismar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Spark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duke Franz Ferdinand visits Sarajevo on Turkish anniver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Hand (Serbian Nationalists) assassinate the Austrian he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vrilo Princ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MMj03365540000[1]"/>
          <p:cNvPicPr/>
          <p:nvPr/>
        </p:nvPicPr>
        <p:blipFill>
          <a:blip r:embed="rId1"/>
          <a:stretch/>
        </p:blipFill>
        <p:spPr>
          <a:xfrm>
            <a:off x="3200400" y="762120"/>
            <a:ext cx="1727280" cy="193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avrilo"/>
          <p:cNvPicPr/>
          <p:nvPr/>
        </p:nvPicPr>
        <p:blipFill>
          <a:blip r:embed="rId2"/>
          <a:stretch/>
        </p:blipFill>
        <p:spPr>
          <a:xfrm>
            <a:off x="7153200" y="3971880"/>
            <a:ext cx="1990800" cy="2886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Mj02347170000[1]"/>
          <p:cNvPicPr/>
          <p:nvPr/>
        </p:nvPicPr>
        <p:blipFill>
          <a:blip r:embed="rId3"/>
          <a:stretch/>
        </p:blipFill>
        <p:spPr>
          <a:xfrm>
            <a:off x="7620120" y="2666880"/>
            <a:ext cx="9810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rting a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320" y="1218960"/>
            <a:ext cx="8613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bia blamed for the st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strian leader died: Austria’s ultimatum, den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declares war on 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mobilizes to assist 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declares war on France upon hearing their compl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nvaded Belgium to attack F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enters to honor a secret al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55"/>
          <p:cNvPicPr/>
          <p:nvPr/>
        </p:nvPicPr>
        <p:blipFill>
          <a:blip r:embed="rId1"/>
          <a:stretch/>
        </p:blipFill>
        <p:spPr>
          <a:xfrm>
            <a:off x="0" y="0"/>
            <a:ext cx="9267840" cy="7648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10560" y="990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Si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46280" y="194472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31120" y="2819520"/>
            <a:ext cx="350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lied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52640" y="4191120"/>
            <a:ext cx="455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ral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stria – Hung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4:55:03Z</dcterms:created>
  <dc:creator>Will</dc:creator>
  <dc:description/>
  <dc:language>en-US</dc:language>
  <cp:lastModifiedBy>Kuenzi</cp:lastModifiedBy>
  <dcterms:modified xsi:type="dcterms:W3CDTF">2013-05-16T12:29:28Z</dcterms:modified>
  <cp:revision>45</cp:revision>
  <dc:subject/>
  <dc:title>WWI</dc:title>
</cp:coreProperties>
</file>